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FDF7-8E47-4D12-B7D0-B3B8EF67B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F5F1-2F69-4756-8433-3CFF5628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70D3-5573-4F06-AAD0-5E811F784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52AC-44B6-4A99-9314-A0267E50B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ADCF-C5F0-4A30-8836-32FC47C0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56C2-6E06-4338-BBD5-17ADA9D8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3548-552A-4FA9-BF20-7B53CA1F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892F-1019-475A-BC20-97D1E853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6AC7-8E7F-4A86-A145-FC1EF959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A648-E890-47A6-A4F7-C7BC433F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33E0-65EE-49AB-8B8E-1A19FD48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BA1E-B5D8-4120-AFD3-E96E5CA1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C0EC-AB4C-461D-B454-2CB62546C9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45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iele für he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ish your Powerpoint of weather (pix, day of the week, words, temperatu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your opening sli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esting background (not too busy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l letters display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sibly the name of the reporter (can be a fake German nam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ime, maybe theme music or some other so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your lost animal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cture of animal (maybe name of anim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act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RT SCRIP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1T13:55:50Z</dcterms:created>
  <dc:creator>ahart</dc:creator>
  <dc:description/>
  <dc:language>en-US</dc:language>
  <cp:lastModifiedBy>Alissa Hart</cp:lastModifiedBy>
  <dcterms:modified xsi:type="dcterms:W3CDTF">2014-10-28T16:02:13Z</dcterms:modified>
  <cp:revision>5</cp:revision>
  <dc:subject/>
  <dc:title>Ziele für heute</dc:title>
</cp:coreProperties>
</file>